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8.jpeg" ContentType="image/jpeg"/>
  <Override PartName="/ppt/media/image21.wmf" ContentType="image/x-wmf"/>
  <Override PartName="/ppt/media/image18.png" ContentType="image/png"/>
  <Override PartName="/ppt/media/image6.jpeg" ContentType="image/jpeg"/>
  <Override PartName="/ppt/media/image19.jpeg" ContentType="image/jpeg"/>
  <Override PartName="/ppt/media/image17.wmf" ContentType="image/x-wmf"/>
  <Override PartName="/ppt/media/image16.jpeg" ContentType="image/jpeg"/>
  <Override PartName="/ppt/media/image9.gif" ContentType="image/gif"/>
  <Override PartName="/ppt/media/image35.wmf" ContentType="image/x-wmf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26.jpeg" ContentType="image/jpeg"/>
  <Override PartName="/ppt/media/image20.wmf" ContentType="image/x-wmf"/>
  <Override PartName="/ppt/media/image13.png" ContentType="image/png"/>
  <Override PartName="/ppt/media/image33.jpeg" ContentType="image/jpeg"/>
  <Override PartName="/ppt/media/image27.jpeg" ContentType="image/jpeg"/>
  <Override PartName="/ppt/media/image38.jpeg" ContentType="image/jpeg"/>
  <Override PartName="/ppt/media/image31.wmf" ContentType="image/x-wmf"/>
  <Override PartName="/ppt/media/image36.jpeg" ContentType="image/jpeg"/>
  <Override PartName="/ppt/media/image43.wmf" ContentType="image/x-wmf"/>
  <Override PartName="/ppt/media/image45.wmf" ContentType="image/x-wmf"/>
  <Override PartName="/ppt/media/image32.wmf" ContentType="image/x-wmf"/>
  <Override PartName="/ppt/media/image44.wmf" ContentType="image/x-wmf"/>
  <Override PartName="/ppt/media/image46.jpeg" ContentType="image/jpeg"/>
  <Override PartName="/ppt/media/image42.wmf" ContentType="image/x-wmf"/>
  <Override PartName="/ppt/media/image47.jpeg" ContentType="image/jpeg"/>
  <Override PartName="/ppt/media/image48.jpeg" ContentType="image/jpeg"/>
  <Override PartName="/ppt/media/image22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40.wmf" ContentType="image/x-wmf"/>
  <Override PartName="/ppt/media/image34.jpeg" ContentType="image/jpeg"/>
  <Override PartName="/ppt/media/image7.png" ContentType="image/png"/>
  <Override PartName="/ppt/media/image12.wmf" ContentType="image/x-wmf"/>
  <Override PartName="/ppt/media/image51.png" ContentType="image/png"/>
  <Override PartName="/ppt/media/image49.wmf" ContentType="image/x-wmf"/>
  <Override PartName="/ppt/media/image8.jpeg" ContentType="image/jpeg"/>
  <Override PartName="/ppt/media/image41.wmf" ContentType="image/x-wmf"/>
  <Override PartName="/ppt/media/image39.jpeg" ContentType="image/jpeg"/>
  <Override PartName="/ppt/media/image5.jpeg" ContentType="image/jpeg"/>
  <Override PartName="/ppt/media/image5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 should be moved to the slide prior to the audience consideration near the beginning of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oduc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elieve this slide should come after the pre-production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urther down to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at In-camera editing is a good exercise to make the presentation more interactive.  I think it works well in the “production” section of a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6E5-5301-4058-AC21-BAC296A15B8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n’t get the video to play in the slide sh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CE2E-0C7B-4C45-8A88-D01E948AD8F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hyperl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5BF-999A-4A55-B3E3-2FD0D4BAEA6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4D1B-4667-4304-AC62-0EA1B94189A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D8C0-C83B-43FE-84F1-17DB5DB8BAF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A18A-937C-40C5-95DA-0F8202A64BA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is info should either be placed at the end with the moviemaker t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video/kwsol/kwsol_00001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alecity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1205&amp;title=Stickleback_Fish_Fossil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aching STEM Concepts  Through Media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216040" y="2022480"/>
            <a:ext cx="2917800" cy="2023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11480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6758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990720" y="533520"/>
            <a:ext cx="7238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6320" y="22860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media Production With a STEM Fl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:\Documents and Settings\lmoore\Local Settings\Temporary Internet Files\Content.IE5\TDC9POB2\MCj03108360000[1].wmf"/>
          <p:cNvPicPr/>
          <p:nvPr/>
        </p:nvPicPr>
        <p:blipFill>
          <a:blip r:embed="rId4"/>
          <a:stretch/>
        </p:blipFill>
        <p:spPr>
          <a:xfrm rot="20823000">
            <a:off x="2425320" y="206856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7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08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12_"/>
          <p:cNvPicPr/>
          <p:nvPr/>
        </p:nvPicPr>
        <p:blipFill>
          <a:blip r:embed="rId2"/>
          <a:stretch/>
        </p:blipFill>
        <p:spPr>
          <a:xfrm>
            <a:off x="7086600" y="15238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3356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5562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edia production starts with  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producers must determine both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ny media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C:\Documents and Settings\lmoore\Local Settings\Temporary Internet Files\Content.IE5\ULJNENOG\MCj03968440000[1].wmf"/>
          <p:cNvPicPr/>
          <p:nvPr/>
        </p:nvPicPr>
        <p:blipFill>
          <a:blip r:embed="rId1"/>
          <a:stretch/>
        </p:blipFill>
        <p:spPr>
          <a:xfrm>
            <a:off x="5410080" y="533520"/>
            <a:ext cx="28958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 Pro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udience/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cripts/story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rep/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/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/pro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/graphics/website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bd05012_"/>
          <p:cNvPicPr/>
          <p:nvPr/>
        </p:nvPicPr>
        <p:blipFill>
          <a:blip r:embed="rId1"/>
          <a:stretch/>
        </p:blipFill>
        <p:spPr>
          <a:xfrm>
            <a:off x="6324480" y="3276720"/>
            <a:ext cx="1954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’s All About the Audi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248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ers  target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vari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on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/grad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7" descr="C:\Documents and Settings\lmoore\Local Settings\Temporary Internet Files\Content.IE5\MKWC3OU3\MPj04395640000[1].jpg"/>
          <p:cNvPicPr/>
          <p:nvPr/>
        </p:nvPicPr>
        <p:blipFill>
          <a:blip r:embed="rId1"/>
          <a:stretch/>
        </p:blipFill>
        <p:spPr>
          <a:xfrm>
            <a:off x="5816520" y="1523880"/>
            <a:ext cx="294660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C:\Documents and Settings\lmoore\Local Settings\Temporary Internet Files\Content.IE5\ULJNENOG\MPj04393970000[1].jpg"/>
          <p:cNvPicPr/>
          <p:nvPr/>
        </p:nvPicPr>
        <p:blipFill>
          <a:blip r:embed="rId2"/>
          <a:stretch/>
        </p:blipFill>
        <p:spPr>
          <a:xfrm>
            <a:off x="5105520" y="4038480"/>
            <a:ext cx="37702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your pur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9144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01" name="Rounded Rectangle 8"/>
          <p:cNvGrpSpPr/>
          <p:nvPr/>
        </p:nvGrpSpPr>
        <p:grpSpPr>
          <a:xfrm>
            <a:off x="5791320" y="3657600"/>
            <a:ext cx="3193920" cy="2657520"/>
            <a:chOff x="5791320" y="3657600"/>
            <a:chExt cx="3193920" cy="2657520"/>
          </a:xfrm>
        </p:grpSpPr>
        <p:pic>
          <p:nvPicPr>
            <p:cNvPr id="10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3193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989680" y="3855960"/>
              <a:ext cx="280332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icture 11" descr="C:\Documents and Settings\lmoore\Local Settings\Temporary Internet Files\Content.IE5\TDC9POB2\MPj04371850000[1].jpg"/>
          <p:cNvPicPr/>
          <p:nvPr/>
        </p:nvPicPr>
        <p:blipFill>
          <a:blip r:embed="rId3"/>
          <a:stretch/>
        </p:blipFill>
        <p:spPr>
          <a:xfrm>
            <a:off x="6095880" y="3886200"/>
            <a:ext cx="25909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172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Writing Proces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7" descr="bd05012_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74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ut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Resources in Multimedi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Picture 8" descr="MCj03661120000[1]"/>
          <p:cNvPicPr/>
          <p:nvPr/>
        </p:nvPicPr>
        <p:blipFill>
          <a:blip r:embed="rId1"/>
          <a:stretch/>
        </p:blipFill>
        <p:spPr>
          <a:xfrm>
            <a:off x="6858000" y="304920"/>
            <a:ext cx="195264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1981080"/>
            <a:ext cx="853452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KET Education Consultant  (AT&amp;T La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Video Multimedia Resource Sit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www.ket.org/education/video-mm-resourc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deo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News Qu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ywood Home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Grimm 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ous KET EncycloMedia videos and materia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.g.)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I’s Lights Camera Educatio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ction Button: Custom 7"/>
          <p:cNvSpPr/>
          <p:nvPr/>
        </p:nvSpPr>
        <p:spPr>
          <a:xfrm>
            <a:off x="457200" y="6019920"/>
            <a:ext cx="6095880" cy="457200"/>
          </a:xfrm>
          <a:custGeom>
            <a:avLst/>
            <a:gdLst>
              <a:gd name="textAreaLeft" fmla="*/ 29520 w 6095880"/>
              <a:gd name="textAreaRight" fmla="*/ 6066360 w 6095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785" h="21600">
                <a:moveTo>
                  <a:pt x="0" y="0"/>
                </a:moveTo>
                <a:lnTo>
                  <a:pt x="287785" y="0"/>
                </a:lnTo>
                <a:lnTo>
                  <a:pt x="287785" y="21600"/>
                </a:lnTo>
                <a:lnTo>
                  <a:pt x="0" y="21600"/>
                </a:lnTo>
                <a:close/>
              </a:path>
              <a:path fill="lightenLess" w="287785" h="21600">
                <a:moveTo>
                  <a:pt x="0" y="0"/>
                </a:moveTo>
                <a:lnTo>
                  <a:pt x="287785" y="0"/>
                </a:lnTo>
                <a:lnTo>
                  <a:pt x="286385" y="1400"/>
                </a:lnTo>
                <a:lnTo>
                  <a:pt x="1400" y="1400"/>
                </a:lnTo>
                <a:close/>
              </a:path>
              <a:path fill="darken" w="287785" h="21600">
                <a:moveTo>
                  <a:pt x="287785" y="0"/>
                </a:moveTo>
                <a:lnTo>
                  <a:pt x="287785" y="21600"/>
                </a:lnTo>
                <a:lnTo>
                  <a:pt x="286385" y="20200"/>
                </a:lnTo>
                <a:lnTo>
                  <a:pt x="286385" y="1400"/>
                </a:lnTo>
                <a:close/>
              </a:path>
              <a:path fill="darkenLess" w="287785" h="21600">
                <a:moveTo>
                  <a:pt x="28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385" y="20200"/>
                </a:lnTo>
                <a:close/>
              </a:path>
              <a:path fill="lighten" w="28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779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earse, record, and perform sc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B-ro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audio/natural 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/label video/audio cli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amera graphic"/>
          <p:cNvPicPr/>
          <p:nvPr/>
        </p:nvPicPr>
        <p:blipFill>
          <a:blip r:embed="rId1"/>
          <a:stretch/>
        </p:blipFill>
        <p:spPr>
          <a:xfrm>
            <a:off x="6400800" y="38098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77914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tri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focus and white balance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camera moves (blocking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shots and moves with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MPj03875510000[1]"/>
          <p:cNvPicPr/>
          <p:nvPr/>
        </p:nvPicPr>
        <p:blipFill>
          <a:blip r:embed="rId1"/>
          <a:stretch/>
        </p:blipFill>
        <p:spPr>
          <a:xfrm>
            <a:off x="5257800" y="579600"/>
            <a:ext cx="1598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sh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overuse zo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down pre- and post-r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roll-back (only on tape camer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Pj03164370000[1]"/>
          <p:cNvPicPr/>
          <p:nvPr/>
        </p:nvPicPr>
        <p:blipFill>
          <a:blip r:embed="rId1"/>
          <a:stretch/>
        </p:blipFill>
        <p:spPr>
          <a:xfrm>
            <a:off x="5638680" y="1638360"/>
            <a:ext cx="258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80880" y="38088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522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-up (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 Shot  (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2096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Shot (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4" descr="close up"/>
          <p:cNvPicPr/>
          <p:nvPr/>
        </p:nvPicPr>
        <p:blipFill>
          <a:blip r:embed="rId1"/>
          <a:stretch/>
        </p:blipFill>
        <p:spPr>
          <a:xfrm>
            <a:off x="228600" y="2286000"/>
            <a:ext cx="1968480" cy="1803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medium"/>
          <p:cNvPicPr/>
          <p:nvPr/>
        </p:nvPicPr>
        <p:blipFill>
          <a:blip r:embed="rId2"/>
          <a:stretch/>
        </p:blipFill>
        <p:spPr>
          <a:xfrm>
            <a:off x="2362320" y="1828800"/>
            <a:ext cx="291456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wide"/>
          <p:cNvPicPr/>
          <p:nvPr/>
        </p:nvPicPr>
        <p:blipFill>
          <a:blip r:embed="rId3"/>
          <a:stretch/>
        </p:blipFill>
        <p:spPr>
          <a:xfrm>
            <a:off x="5410080" y="15238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3505320" y="6324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ouisville Zoo Ferret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Custom 10"/>
          <p:cNvSpPr/>
          <p:nvPr/>
        </p:nvSpPr>
        <p:spPr>
          <a:xfrm>
            <a:off x="3429000" y="62485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29000" y="6319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Zoo Vet NeoNatal Exam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Action Button: Custom 4"/>
          <p:cNvSpPr/>
          <p:nvPr/>
        </p:nvSpPr>
        <p:spPr>
          <a:xfrm>
            <a:off x="3352680" y="63244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hooting Video of Live Animal Subjec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Picture 3" descr="C:\Documents and Settings\larry.moore.KET\Local Settings\Temporary Internet Files\Content.IE5\85297ZNX\MC900023724[1].wmf"/>
          <p:cNvPicPr/>
          <p:nvPr/>
        </p:nvPicPr>
        <p:blipFill>
          <a:blip r:embed="rId1"/>
          <a:stretch/>
        </p:blipFill>
        <p:spPr>
          <a:xfrm>
            <a:off x="2895480" y="2133720"/>
            <a:ext cx="351324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-up/Extreme CU- establish character’s appearance, emotions, point out details, isolates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- create comfortable “talking”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- establish setting/show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View- allows viewer to understand character’s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en00613_"/>
          <p:cNvPicPr/>
          <p:nvPr/>
        </p:nvPicPr>
        <p:blipFill>
          <a:blip r:embed="rId1"/>
          <a:stretch/>
        </p:blipFill>
        <p:spPr>
          <a:xfrm>
            <a:off x="7086600" y="4800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’s Eye (high angle)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wea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le/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’s Eye (low angle)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larger, powerful/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be used in science instruction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28600" y="182088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experiments/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e video field journal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e scientific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inter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Documents and Settings\lmoore\Local Settings\Temporary Internet Files\Content.IE5\MKWC3OU3\MPj04387530000[1].jpg"/>
          <p:cNvPicPr/>
          <p:nvPr/>
        </p:nvPicPr>
        <p:blipFill>
          <a:blip r:embed="rId1"/>
          <a:stretch/>
        </p:blipFill>
        <p:spPr>
          <a:xfrm>
            <a:off x="7238880" y="4038480"/>
            <a:ext cx="16732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91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s attention throughout a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BUS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743200" y="2666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173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sual Storytelling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s (dissolves, cuts, compu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imation) connect shots and control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Focus manipulates attention by changing focus from subjects in foregroun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en00273_"/>
          <p:cNvPicPr/>
          <p:nvPr/>
        </p:nvPicPr>
        <p:blipFill>
          <a:blip r:embed="rId1"/>
          <a:stretch/>
        </p:blipFill>
        <p:spPr>
          <a:xfrm>
            <a:off x="6858000" y="47242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43" descr="frame"/>
          <p:cNvPicPr/>
          <p:nvPr/>
        </p:nvPicPr>
        <p:blipFill>
          <a:blip r:embed="rId2"/>
          <a:stretch/>
        </p:blipFill>
        <p:spPr>
          <a:xfrm>
            <a:off x="2185920" y="2438280"/>
            <a:ext cx="4672080" cy="2895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26"/>
          <p:cNvSpPr/>
          <p:nvPr/>
        </p:nvSpPr>
        <p:spPr>
          <a:xfrm>
            <a:off x="762120" y="609480"/>
            <a:ext cx="8076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29"/>
          <p:cNvSpPr/>
          <p:nvPr/>
        </p:nvSpPr>
        <p:spPr>
          <a:xfrm>
            <a:off x="3124080" y="5562720"/>
            <a:ext cx="2971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Center o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Rule of Th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31"/>
          <p:cNvSpPr/>
          <p:nvPr/>
        </p:nvSpPr>
        <p:spPr>
          <a:xfrm flipH="1">
            <a:off x="236232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32"/>
          <p:cNvSpPr/>
          <p:nvPr/>
        </p:nvSpPr>
        <p:spPr>
          <a:xfrm>
            <a:off x="571500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33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34"/>
          <p:cNvSpPr/>
          <p:nvPr/>
        </p:nvSpPr>
        <p:spPr>
          <a:xfrm>
            <a:off x="6019920" y="236232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37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8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39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35"/>
          <p:cNvSpPr/>
          <p:nvPr/>
        </p:nvSpPr>
        <p:spPr>
          <a:xfrm>
            <a:off x="594360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36"/>
          <p:cNvSpPr/>
          <p:nvPr/>
        </p:nvSpPr>
        <p:spPr>
          <a:xfrm flipH="1">
            <a:off x="5409720" y="2590920"/>
            <a:ext cx="6858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523880" y="182880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1" descr="leadway"/>
          <p:cNvPicPr/>
          <p:nvPr/>
        </p:nvPicPr>
        <p:blipFill>
          <a:blip r:embed="rId1"/>
          <a:stretch/>
        </p:blipFill>
        <p:spPr>
          <a:xfrm>
            <a:off x="1600200" y="21337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6255000" y="24987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 flipH="1" flipV="1">
            <a:off x="5790960" y="236196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2133720" y="5089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Lead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1676160" y="52578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3657600" y="52578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724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Disappearing Ac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    (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n Camera Edi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stablish subject, subject fre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ause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hange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1028" descr="pe01682_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re- and post-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ce-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85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636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with headpho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icrophones specific to project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mic correct distance from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built-in mic move in, then zoom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distracting background no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nly cam 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 too far from sound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enhance science instruction by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28600" y="194616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ing a magnifying lens/microscope view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ring data, observations, experiences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media technologi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ng abstract concepts with 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lect pieces of video/audio are ordered and edited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graphics and effects are generated and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udio track is edited (sweetened) with sound effects, music, and natural sounds  and aligned to v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1447920"/>
            <a:ext cx="266688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Camera editing: Consecutiv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/shoot  video u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/pause feature. Litt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for later rearrangement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: shoot video/re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, upload to  computer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into a timeline with ed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.  Allows for spec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s, graphics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rrangement of video/audi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ing EncycloMedia With Photo Story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1"/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2" descr="C:\Documents and Settings\lmoore\Desktop\Workshops\Workshop Pres. Builder\workshop images\USGS Rock Cyc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 Using EncycloMedia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04920" y="4952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se short movies were created using “MovieMaker” to incorporate original video combined with Encyclomedia and cl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Fossil Isotelus big"/>
          <p:cNvPicPr/>
          <p:nvPr/>
        </p:nvPicPr>
        <p:blipFill>
          <a:blip r:embed="rId1"/>
          <a:stretch/>
        </p:blipFill>
        <p:spPr>
          <a:xfrm>
            <a:off x="609480" y="1828800"/>
            <a:ext cx="3706920" cy="266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C:\Documents and Settings\lmoore\Local Settings\Temporary Internet Files\Content.IE5\M55FIOIF\MCj03470350000[1].wmf"/>
          <p:cNvPicPr/>
          <p:nvPr/>
        </p:nvPicPr>
        <p:blipFill>
          <a:blip r:embed="rId2"/>
          <a:stretch/>
        </p:blipFill>
        <p:spPr>
          <a:xfrm>
            <a:off x="5181480" y="1828800"/>
            <a:ext cx="26672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Edited production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gs (this are for elementary 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228600" y="20574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ing observations for accurate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master shots with close-up cover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hieve detai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graphics to efficiently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C:\Documents and Settings\lmoore\Local Settings\Temporary Internet Files\Content.IE5\TDC9POB2\MCj03108360000[1].wmf"/>
          <p:cNvPicPr/>
          <p:nvPr/>
        </p:nvPicPr>
        <p:blipFill>
          <a:blip r:embed="rId1"/>
          <a:stretch/>
        </p:blipFill>
        <p:spPr>
          <a:xfrm flipH="1">
            <a:off x="7162560" y="4038480"/>
            <a:ext cx="865080" cy="1127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360" y="3805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further enhances the effectiveness of instruction b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can also help to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28600" y="17715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b-roll from experiments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objective(s) of a proje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segments from KET EFTs, 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Media into original classroom produc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ll aspects of student scientific inqui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acher-produced instructional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 for independent use b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57200" y="22096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400" y="1519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KET Example of Using video to Teach 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4" name="Picture 4" descr="C:\Documents and Settings\larry.moore.KET\Local Settings\Temporary Internet Files\Content.IE5\85297ZNX\MP900430853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219320"/>
            <a:ext cx="6629400" cy="48625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981080" y="6172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2O Water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400" y="1519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KET Example of Using video to Teach 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380960"/>
            <a:ext cx="7758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8591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Student Produced Video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6668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leback Fish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ction Button: Custom 5"/>
          <p:cNvSpPr/>
          <p:nvPr/>
        </p:nvSpPr>
        <p:spPr>
          <a:xfrm>
            <a:off x="2666880" y="632448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stickleba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7467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arry.Moore</cp:lastModifiedBy>
  <dcterms:modified xsi:type="dcterms:W3CDTF">2010-09-23T15:57:12Z</dcterms:modified>
  <cp:revision>204</cp:revision>
  <dc:subject/>
  <dc:title>Media Production with a Science Flavor</dc:title>
</cp:coreProperties>
</file>